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8E34-00CE-4DCC-B4E3-9F7B9524F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9865-9C22-4EF3-953D-18850F5C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D89D-9266-45B9-AAD4-839771D08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0891-50DE-4F89-922B-B95B35A93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C5A6-D913-411A-831E-4E29C1EFB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7C41-F4C2-42F5-8D0D-44804929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B2EC-B9CC-4C5B-B702-51769500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C28B-EDEB-42AD-A124-87D2BDF9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65AE-167C-4586-8C84-C472A384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C131-0FAF-4EFD-8697-C81B8FFE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7F59-F533-4890-94A6-DE6A0B84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7868-82D1-405A-9553-D91DC8A2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1F71-12AE-4190-A80F-9701511F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230F-2335-4D85-8772-981D48CE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2C27-9B1B-4AAF-8788-C8B9B4B0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A298-633F-4B76-8509-EE7698AF2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819B-9927-4458-8DD6-A403398BF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50B1-96AC-443C-9A55-2EAD57B1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1848-A5AF-41DC-B8FA-C0003E7A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9CBC-77F3-45BE-8670-393863FD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EAC1-6559-40FD-8403-331C88BC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4585-E0EF-4E82-8184-0309268C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EB22-CD9E-4DA0-B111-E8E93179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79BD-935F-401B-9233-807B1693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C120-399E-4931-8203-7B292C1692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F98B-72B1-46BC-9922-F7FFA5969E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er Stage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B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reer Exi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irement,child rearing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a complete disconnect from the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mportant to no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ges are not li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and environmental environments can affec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rganizational Environ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ve environment will reinforce, reward and encour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list.  How have some organizational issues listed made an impact on teachers you know, perhaps yoursel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ome reasons for dissatisfa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tery of pup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artment head or princi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y of school district choice of a program (e.g. reading, sci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edictors of Satisfa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nk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d in school-wide inno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ght,spontaneous role sh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of achieving significant results in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ssumption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Symbol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scenario for satisfactory career development is through a craft model (artisa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s of p.d. most likely to succeed will be grafted on the ways in which teachers spontaneously go about tinkering in their classro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entraliz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experimental time, collecting data before and a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ster collaboration that respects one’s work as an artis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ersonal Environ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the list.  How can issues listed change a person’s career  stage, positively or negativ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ncern-Based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doption Mod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handout and note the stages of concern whenever an innovation is presen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reer Cycle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move through the stages in a lock-step fash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personal life affects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environment affects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e hando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eservi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of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urse Wor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eld Observa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udent Teaching/Intern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duction:  Years 1 &amp;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ized into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ve for acceptance by students, peers, and supervi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mpt to achieve a comfort and security level in dealing with everyday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mpetency Build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ve to improve teaching skills and 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k out new materials, methods, and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ptive to new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job as challenging and eager to im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nthusiastic and Grow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realized high level of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ly seeking new ways to enrich their te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ve and helpful in identifying professional development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reer Frustr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ustrated and disillusio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midpoint in car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nou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able and Stagn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ved to “doing the ti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hat is expected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committed to pursuit of excellence and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e at surfac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reer Wind Dow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ing to leave prof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, a pleasant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ome, a bitt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last several years or a matter of w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6T11:59:12Z</dcterms:created>
  <dc:creator>Denise G. Meister</dc:creator>
  <dc:description/>
  <dc:language>en-US</dc:language>
  <cp:lastModifiedBy>csteinbacher</cp:lastModifiedBy>
  <dcterms:modified xsi:type="dcterms:W3CDTF">2010-03-27T15:32:06Z</dcterms:modified>
  <cp:revision>17</cp:revision>
  <dc:subject/>
  <dc:title>C&amp;S563--Class #4</dc:title>
</cp:coreProperties>
</file>